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A8B-D229-461A-8079-1DD2BF25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5B7-43CD-423A-B8DD-2ACB54EB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A80-99D3-4DF0-8F1D-8AD937F0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4D3-E7BC-4A2F-9EC7-B9342A3D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A323-3B88-4960-A8D5-1EE1DA15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FB62-0B46-418A-A94E-80F914D7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A756-AF48-463F-AC9B-6D1FD3F3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A154-15FD-4EE9-897B-1455DBCE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54BA-955A-42DB-ADA2-2941F320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1CD3-B8D5-451A-80A6-0893A58C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AF04-4D2D-4C77-8E90-833EDB7B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906-F54F-48AA-9828-93669FA7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C4DA-9412-4A9F-8214-374CD4CF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EE96-FA66-489D-A419-0AC56DE1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8DF1-20B4-4FC9-A341-38D90FBB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8AE3-92F7-415C-A4D2-076E1203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40E5-CC43-4EEB-A8B3-20811222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291A2-26EE-4BF0-BEE3-30E3D2BB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AC7C0-0449-43D3-8E5C-459E0FA0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5309B-4325-4C41-8A37-8C397AD5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59B2E-1DA6-4F75-A2E0-CD72D08D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02CD-69FC-4CD0-BC71-A994D0FD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ACC-B738-47BF-BE0B-A12DC8FE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5946B-F38F-4F92-B584-30696DC3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E458F-7FBD-491D-AB27-7F109D12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33CC6-06C3-44C7-A90E-BB5E1288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B6216-82EE-4FFE-98DB-724048A0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95814-7F5E-499F-ABB6-01DA40BC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263F9-3A22-4302-A19C-D397B6EC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D9804-A125-4679-8066-A91257D4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8AF8D-065D-496B-8B37-FD17DAD7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BA44F-0C51-4D90-B5C9-1AEFDED0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46014-F07F-4586-B718-3181033E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304-AFEA-4A13-9D10-A0A80B2D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D9E4E-7EC2-4E1F-B795-0358F3C2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C4B71-BC1A-4442-9AA3-93B858A9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95D28-19C2-4BCE-B8A8-84D97200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508DB-979A-4D25-8329-37E31134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0045A-27D8-488F-A59B-8C55C03C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D5966-B02C-4534-A08D-2A688DFB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280D3-0A75-4477-AB65-4D09165D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60617-7A82-41C3-9A45-98CA3A84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835A1-FD95-45FA-ACF3-00C2C6D0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CEC69-3A92-4045-99C8-78772397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08F-58AE-4AAE-8A77-E4965C14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DF383-30FF-4D3C-80B6-8DD45825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2DC14-4897-405F-B823-06D28A39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50E10-4DEE-4CDF-BB54-53B1299A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08B10-921A-4FCD-9FCF-CB963747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4B8EB-3BF8-47BA-A9B5-1FE56DFF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9C3E9-828D-4F49-8B02-28F4FEBE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9B555-124D-4456-9F90-7D231511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37779-8DE0-4129-91C8-F1F038B7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AB38F-02E9-4B4B-B9BD-DF0276CC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9A1FF-1084-4C7B-8483-7BE2B2BC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CC7-F866-44FE-89D8-E8C9EF8C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294D2-C993-4883-A9B5-A1A0568C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5BD6E-1F8F-406E-83B1-47239560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E0FA7-74C1-4E70-A3CB-7F9BFF66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F2A89-E868-4C02-8FDE-DF1D06D6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32447-0BE7-4ACC-AC6A-EF62B154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A9886-2545-409E-A784-B97D9A04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07623-F81C-4E7D-90D3-F0137A9B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1755E-12CD-41AB-B7CE-77C62220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F1BFC-8B9B-4B44-A2BC-27CDCDFA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C323C-68D9-4261-B3F9-A3F15DEC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5D0-26D8-49CD-89A9-35504A4B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EE988-A9BE-46F2-B052-02EF6C07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E98E3-7B92-40F8-8BC3-A6B3C719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46EFC-C567-4931-B552-0322332B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E6E06-FF0D-4592-9CAE-99FAB8E4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FEA8F-2050-4341-8731-8D7B2FA9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9D339-9350-4687-962D-600DD42D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54133-D076-422E-9808-DBC6216A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1CB62-674A-44EB-93E8-89EF55D6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56766-C5AD-4BBF-BB96-E1C0859E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1022F-95BA-4BAA-8DEB-1198C5C7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840-56A4-420C-A7C5-283394F3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1CFC6-73FE-4F59-915D-09F6E68D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373A7-2C45-45EB-87D7-32177454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6C311-39DC-46E2-ABE5-54F70830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812AD-2A66-4B30-9851-AAE290E5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71849-287F-4E6A-A15C-1A983258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FEE-70F8-4358-AEDF-D010C12C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BC01-47BC-453F-A267-E04150FB8E6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6A46-771F-4E73-ADDE-53DF28F2B71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D473-6D85-4101-B81C-C01FC458D86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924C-2758-4258-A9FB-1B8AD5EB2CA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241C-910C-4309-A74B-3A6A1402C19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8EC4-5F6A-4027-8F70-921CB9348A9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5BCF-CD4E-4819-BBA1-75DCE9C3A42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ye and Ea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809880" cy="3238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5334120" y="3657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iddle Ea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2193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ains three bones (smallest in the body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l three  -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alle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nc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tap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hammer, anvil, and stirrup) transmit the vibrational waves to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oval wind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a membrane connected to the inner e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so in middle is a opening to the pharynx called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Eustachian 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ulates pressure affecting tympanic membra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ner Ea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ual center where sound waves are process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s fluid filled chambers calle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micircular canal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responsible for spatial orien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ochle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s the hearing cent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nected to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uditory ner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which relays info to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uditory complex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n cerebr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y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52578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eye is covered in a tough layer of connective tissue called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cle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is covered by a mucous membrane called the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onjuncti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comes clear in front of the eyes, calle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orne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xt inner layer is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horo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urns into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iliary bod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then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ri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gives the eye its colou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ris can change size, regulate amount of ligh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hole it makes is the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pup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34960" y="380520"/>
            <a:ext cx="74995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nermost layer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reti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de of neurons and photoreceptors (clustered in the back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centre of fron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lexible, focuses light entering ey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ape controlled by ciliary bod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liary bodies contract, compressing lens, focus on near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the relax, lens lengthens, focus on distance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ght passes through clear fluid calle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vitreous humo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34960" y="457200"/>
            <a:ext cx="7499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uid supplied by ciliary bod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ght strikes two types of photoreceptors,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rod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ds detect intens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es detect colour (three typ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ods more around perimeter, cones in cen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luster of cone cells at centre of vision is calle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ve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formation is processed and sent through optic ner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nerve leaves a sort of “optic bald spot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optic dis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aka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lind spo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isual cortex (posterior of cerebrum) fills in the blanks, so we normally don’t see i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a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ken into three sections: outer, middle, and inn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921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er Ea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two stru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ual “ear” that we see is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in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pens to a tube calle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uditory can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oth are designed to collect logitudinal compression and rarefaction wa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23:03:10Z</dcterms:created>
  <dc:creator>ED18</dc:creator>
  <dc:description/>
  <dc:language>en-US</dc:language>
  <cp:lastModifiedBy>ED18</cp:lastModifiedBy>
  <dcterms:modified xsi:type="dcterms:W3CDTF">2011-05-27T11:11:17Z</dcterms:modified>
  <cp:revision>5</cp:revision>
  <dc:subject/>
  <dc:title>Eye and Ear</dc:title>
</cp:coreProperties>
</file>